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4526-2E07-40D0-B5EC-2B54C319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C416-67BD-4FDD-9EB7-9EA66B45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B35-3C24-4E9B-8D23-2E3BDD22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F6E0-5248-4A78-948C-C75E0473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9121-64FA-442F-BC15-CD986347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4AA-EDAC-40EA-8BD2-4D673818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45A-F55D-4923-A78B-7A83800F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BEA7-15E9-4210-ACB5-B9FEF18C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8F7B-B549-4675-BA27-E5D91A87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34B9-E4CE-4F97-B4E8-83ED2BB6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09A-8EC9-4A9D-91DD-9ED1B373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F6A9-3DC8-4EB2-B63F-E25CA479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avidla pro MS Exc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5B16-5412-400B-90C3-FEF7CB427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braná pravidla pro tvorbu tabulek v MS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35000" y="5013360"/>
            <a:ext cx="699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S využitím kni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unstová, Renat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žití kancelářských aplikací / Praha : Oeconomica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Minimalizace použití kons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835280" y="2492280"/>
          <a:ext cx="5286240" cy="112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492280"/>
                    <a:ext cx="52862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2843280" y="4508640"/>
          <a:ext cx="3101760" cy="1122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4508640"/>
                    <a:ext cx="310176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547640" y="2060640"/>
            <a:ext cx="5904000" cy="194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4221000"/>
            <a:ext cx="4751640" cy="151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79640" y="4292280"/>
            <a:ext cx="4464000" cy="129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Použití standardních funkcí, je-li to možn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00000" y="2421000"/>
            <a:ext cx="410508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průměr(B3:b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(b3+b4+b5...)/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2133720"/>
            <a:ext cx="4535640" cy="12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484360" y="3860640"/>
            <a:ext cx="4896000" cy="1511640"/>
            <a:chOff x="2484360" y="3860640"/>
            <a:chExt cx="4896000" cy="1511640"/>
          </a:xfrm>
        </p:grpSpPr>
        <p:sp>
          <p:nvSpPr>
            <p:cNvPr id="56" name=""/>
            <p:cNvSpPr/>
            <p:nvPr/>
          </p:nvSpPr>
          <p:spPr>
            <a:xfrm>
              <a:off x="2629080" y="3860640"/>
              <a:ext cx="4751280" cy="151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2484360" y="3931920"/>
              <a:ext cx="4464000" cy="1297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Nepoužívat standardní funkce tam, kam nepatř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00360" y="3213000"/>
            <a:ext cx="36720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suma(a1+b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195640" y="2997360"/>
            <a:ext cx="4895280" cy="1511280"/>
            <a:chOff x="2195640" y="2997360"/>
            <a:chExt cx="4895280" cy="1511280"/>
          </a:xfrm>
        </p:grpSpPr>
        <p:sp>
          <p:nvSpPr>
            <p:cNvPr id="61" name=""/>
            <p:cNvSpPr/>
            <p:nvPr/>
          </p:nvSpPr>
          <p:spPr>
            <a:xfrm>
              <a:off x="2340000" y="2997360"/>
              <a:ext cx="4750920" cy="1511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195640" y="3068640"/>
              <a:ext cx="4463640" cy="1296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Minimalizujte vkládání stejných vzorc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2276280"/>
            <a:ext cx="591516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opíruj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ztahuj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Používejte správně absolutní, relativní a smíšené odkaz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2920" y="2997360"/>
            <a:ext cx="596268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a1+b1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lativ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bsolu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1+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míše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Rozlišujte zaokrouhlení a změnu formá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52680" y="2828880"/>
          <a:ext cx="6038640" cy="204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2680" y="2828880"/>
                    <a:ext cx="603864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Šířku sloupce přizpůsobujte obsahu řádků a ne nadpisu sloupc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1280" y="2708280"/>
          <a:ext cx="7770600" cy="66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708280"/>
                    <a:ext cx="77706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556000" y="4292640"/>
          <a:ext cx="3860640" cy="1114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4292640"/>
                    <a:ext cx="38606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2268360" y="3933720"/>
            <a:ext cx="4499280" cy="1800360"/>
          </a:xfrm>
          <a:prstGeom prst="ellipse">
            <a:avLst/>
          </a:prstGeom>
          <a:noFill/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8360" y="2421000"/>
            <a:ext cx="7917840" cy="1653840"/>
            <a:chOff x="468360" y="2421000"/>
            <a:chExt cx="7917840" cy="1653840"/>
          </a:xfrm>
        </p:grpSpPr>
        <p:sp>
          <p:nvSpPr>
            <p:cNvPr id="77" name=""/>
            <p:cNvSpPr/>
            <p:nvPr/>
          </p:nvSpPr>
          <p:spPr>
            <a:xfrm>
              <a:off x="701640" y="2421000"/>
              <a:ext cx="7684560" cy="1653840"/>
            </a:xfrm>
            <a:prstGeom prst="line">
              <a:avLst/>
            </a:prstGeom>
            <a:ln w="792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68360" y="2421000"/>
              <a:ext cx="7687080" cy="1497600"/>
            </a:xfrm>
            <a:prstGeom prst="line">
              <a:avLst/>
            </a:prstGeom>
            <a:ln w="792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6:58:04Z</dcterms:created>
  <dc:creator>j</dc:creator>
  <dc:description/>
  <dc:language>en-US</dc:language>
  <cp:lastModifiedBy>JB</cp:lastModifiedBy>
  <dcterms:modified xsi:type="dcterms:W3CDTF">2006-12-09T15:10:24Z</dcterms:modified>
  <cp:revision>7</cp:revision>
  <dc:subject/>
  <dc:title>Vybraná pravidla pro tvorbu tabulek v MS Excel</dc:title>
</cp:coreProperties>
</file>